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1FE4-25B3-4338-B3FC-206EC444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urtney) Discuss example from last year before teachers had the training. Point out student friendly terms.  MAJOR EMPHASIS: teachers must make the posted scale for young or special needs students understandable--pictures, colors, symbo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FCE3-0821-4CD3-88A7-0390FDEAC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948-3FD4-4CF9-844B-37D026AE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02E-85A6-41AC-83B0-368A2E40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D6A-C698-4A65-832E-D1B8F140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F79-2B6C-4D9F-A075-2F0432AF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D5FD-2199-4B43-BB3B-8E1DB1AB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B711-DF2C-425F-9CB1-B0C382C1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AA80-89A1-4EE2-BF01-312981A5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9102-AA69-4E0B-89A2-BA376AD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FB69-17AC-4CAF-989F-753B404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34C-7698-4BA1-91BC-97548115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3DCE-62D3-4459-8959-18E14C5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D2C-3F87-4785-B09F-7779FA25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449E-6621-40C6-8B78-D911AFA5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2BD-A707-45C6-9D7A-FF32D978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B0D1-F636-4B7F-8DBA-3DC882E7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1CD8-6D55-4264-91D3-C186A671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F4DC-BA87-415A-8E8A-C92932A7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CC1-23F3-44FF-8D57-5D2C36B3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4AB-234E-43F7-8A05-E1EA869F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0A4-97D1-43C9-9302-C96C43FA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3BF-4829-4FD8-A2F0-0D995EB9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636-8EF4-45F8-8183-A1611A0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81F-F199-43A4-A582-3899410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C7E-4665-49A1-96A5-757D51E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3D45-161F-4DA5-A289-F5020008AD0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1F48-E692-407A-A7B8-E9E50B3FB1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arning Continuum Scal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cale is an attempt to create a continuum that delineates distinct levels of knowledge and skill relative to a specific topi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can be thought of as an applied version of a learning progression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well-written scale should make it easy for teachers to design and score assessment tasks that can be used to generate both formative and summative score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19304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1930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. Robert Marz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 that deals with level of thinking required of the stu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bjectives in the schools                                tend to come from the cognitive                             doma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gnitive domains most referred t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of Educational Objectives; six hierarchical leve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ion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ips the last two levels of Bloom’s Taxono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3493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gni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Model:  Anderson and Krathwohl’s Taxonomy (2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similar to Bloom’s Taxonomy, except for switching of the two highest level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and Krathwohl’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m’s Taxonomy                          Taxono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Two cognitive domains.png"/>
          <p:cNvPicPr/>
          <p:nvPr/>
        </p:nvPicPr>
        <p:blipFill>
          <a:blip r:embed="rId1"/>
          <a:stretch/>
        </p:blipFill>
        <p:spPr>
          <a:xfrm>
            <a:off x="914400" y="3276720"/>
            <a:ext cx="7543800" cy="320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:  requires students to memorize and recall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rehension:  requires students to demonstrate some level of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:  requires students to use previously acquired information in a setting other than that in which it was learned.  Students are required to transfer their skills to another setting/situ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evels of Bloom’s Taxonomy of Educational Objectives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sis:  requires students to draw relationships among ideas or to compare/contrast; break down inform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nthesis:  requires students to draw from what he/she has learned and produce something unique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ghest level in Anderson and Krathwohl’s mod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:  requires students to form judgments about the value or worth of something and to substantiate his/her judgment.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ext to the highest level in Anderson and Krathwohl’s model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Content Placeholder 5" descr="SCALES - Writing Objectives in the Cognitive Domain.png"/>
          <p:cNvPicPr/>
          <p:nvPr/>
        </p:nvPicPr>
        <p:blipFill>
          <a:blip r:embed="rId1"/>
          <a:srcRect l="-2995" t="0" r="-2995" b="0"/>
          <a:stretch/>
        </p:blipFill>
        <p:spPr>
          <a:xfrm>
            <a:off x="-266760" y="685800"/>
            <a:ext cx="96393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20120405_102637 (1).jpg"/>
          <p:cNvPicPr/>
          <p:nvPr/>
        </p:nvPicPr>
        <p:blipFill>
          <a:blip r:embed="rId1"/>
          <a:stretch/>
        </p:blipFill>
        <p:spPr>
          <a:xfrm>
            <a:off x="2054160" y="28440"/>
            <a:ext cx="5203800" cy="6829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-457200" y="56386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Courtesy: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Hamilton Elementar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 Grade Te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Object 63"/>
          <p:cNvGraphicFramePr/>
          <p:nvPr/>
        </p:nvGraphicFramePr>
        <p:xfrm>
          <a:off x="7696080" y="6019920"/>
          <a:ext cx="414360" cy="591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6019920"/>
                    <a:ext cx="4143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8"/>
          <p:cNvSpPr/>
          <p:nvPr/>
        </p:nvSpPr>
        <p:spPr>
          <a:xfrm>
            <a:off x="5943600" y="661176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lbertus Medium"/>
              </a:rPr>
              <a:t>Instructional Excellence &amp; Equity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0" descr="photo"/>
          <p:cNvPicPr/>
          <p:nvPr/>
        </p:nvPicPr>
        <p:blipFill>
          <a:blip r:embed="rId1"/>
          <a:srcRect l="0" t="10523" r="0" b="10523"/>
          <a:stretch/>
        </p:blipFill>
        <p:spPr>
          <a:xfrm>
            <a:off x="1752480" y="123840"/>
            <a:ext cx="6324840" cy="665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Content Placeholder 5" descr="SCALES - Writing Objectives in the Cognitive Domain.png"/>
          <p:cNvPicPr/>
          <p:nvPr/>
        </p:nvPicPr>
        <p:blipFill>
          <a:blip r:embed="rId1"/>
          <a:srcRect l="-2995" t="0" r="-2995" b="0"/>
          <a:stretch/>
        </p:blipFill>
        <p:spPr>
          <a:xfrm>
            <a:off x="-266760" y="685800"/>
            <a:ext cx="963936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omains of Learni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sson plan must include goals/objectives, or statements indicating what students should be able to do at the end of a period of instru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objective falls within at least one of three domains (or categories) of learn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reflecting underlying emotions, feelings, or values rather than level of think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music student will appreciate music from the Baroque perio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2361960" cy="157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ierarchical Levels of the Affective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eiving (Atten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ization by a value or value complex:  One behaves in a manner consistent with one’s value system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 in this domain deal with movem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dance student will perform all 5 basic positions of ballet with 100% accurac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9209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sychomotor Domain Hierarch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ving – gross motor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pulating – fine motor coord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cating – communication of idea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– represents the student’s coordination of thinking, learning, and behaving in all three dom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09-03T11:08:52Z</cp:lastPrinted>
  <dcterms:modified xsi:type="dcterms:W3CDTF">2013-09-04T18:15:42Z</dcterms:modified>
  <cp:revision>254</cp:revision>
  <dc:subject/>
  <dc:title>Slide 1</dc:title>
</cp:coreProperties>
</file>